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488-F49E-4DDF-AB8D-00952F60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F87-3976-43EE-8287-B2D22A47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82C-318E-44E0-9035-0EA3DDE5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175-42DE-4B7F-B6CF-395996D5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E867B-10B0-49CE-85F1-F96C2F82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FBC09-E873-4482-A17F-668B1830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EE3AE-98DA-4303-AC21-646608D3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B62C8-E21E-46F9-A5C5-24397D3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42D14-925D-4ACD-97F0-5CD26B74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88C10-6B9A-4848-BDFA-03A8E7F9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2D411-D052-4E69-B1C4-EFB1AF7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B41-C169-4011-B562-D13C020E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3983F-CC7A-4B04-B8F6-CFF81F5E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09C50-022D-42CA-9A44-FEF33DF6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8D3DD-76AC-4455-B67F-BE4FA75A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B122A-869F-4F40-AFF5-96603D30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564A4-2CF6-4D47-BDAC-9CB9EA44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926-2445-4DD0-8559-275A0F22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79C-A1C0-4A9B-B2DD-5940D114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D9F-4202-4652-A08E-ACEC818C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B1F-DB9C-44BF-B4CD-4DCEF9FC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83D-676E-42C6-B25D-21B38D49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2D0-0FD8-45BC-AC77-1EBDE1C9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4EC-AB89-4EC4-BCE5-B58F12DF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480-03DD-4792-BD53-7FBEE2C4A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EA76-2593-4804-936A-67D3CB6D3B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orema lui Thale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ZUL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1844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upa 1 – albastr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a a VII-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Şcoala cu clasele I-VIII Sî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adi Patri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z An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gy Lasz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asi Atti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 flipV="1">
            <a:off x="5580000" y="2421000"/>
            <a:ext cx="30974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5724360" y="404640"/>
            <a:ext cx="100836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6"/>
          <p:cNvSpPr/>
          <p:nvPr/>
        </p:nvSpPr>
        <p:spPr>
          <a:xfrm flipH="1" flipV="1">
            <a:off x="6732720" y="404280"/>
            <a:ext cx="1944720" cy="20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7"/>
          <p:cNvSpPr/>
          <p:nvPr/>
        </p:nvSpPr>
        <p:spPr>
          <a:xfrm>
            <a:off x="5940360" y="191628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734520" y="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150880" y="23493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8673840" y="220500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36580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8246160" y="155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145440" y="106200"/>
            <a:ext cx="613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Într-un triunghi oarecare  ABC se ia punctul 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Є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  <a:ea typeface="Tahoma"/>
              </a:rPr>
              <a:t>înafara triunghiului AB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254520" y="1557360"/>
            <a:ext cx="46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nfor Theoremei lui Thal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714240" y="21351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33"/>
          <p:cNvSpPr/>
          <p:nvPr/>
        </p:nvSpPr>
        <p:spPr>
          <a:xfrm>
            <a:off x="755640" y="2708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71760" y="2637000"/>
            <a:ext cx="8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1589400" y="234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2325240" y="213372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2340000" y="2708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261880" y="26370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3501360" y="23493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1606320" y="38606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41"/>
          <p:cNvSpPr/>
          <p:nvPr/>
        </p:nvSpPr>
        <p:spPr>
          <a:xfrm>
            <a:off x="1619280" y="4581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42"/>
          <p:cNvSpPr/>
          <p:nvPr/>
        </p:nvSpPr>
        <p:spPr>
          <a:xfrm>
            <a:off x="1596600" y="465300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3"/>
          <p:cNvSpPr/>
          <p:nvPr/>
        </p:nvSpPr>
        <p:spPr>
          <a:xfrm>
            <a:off x="2669040" y="422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3270600" y="3860640"/>
            <a:ext cx="9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45"/>
          <p:cNvSpPr/>
          <p:nvPr/>
        </p:nvSpPr>
        <p:spPr>
          <a:xfrm>
            <a:off x="327672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3260880" y="47973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A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9:57:08Z</dcterms:created>
  <dc:creator>xxx</dc:creator>
  <dc:description/>
  <dc:language>en-US</dc:language>
  <cp:lastModifiedBy>server</cp:lastModifiedBy>
  <dcterms:modified xsi:type="dcterms:W3CDTF">2011-02-25T09:32:13Z</dcterms:modified>
  <cp:revision>5</cp:revision>
  <dc:subject/>
  <dc:title>Slide 1</dc:title>
</cp:coreProperties>
</file>